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798-F896-45A7-AAF0-062111EE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D93-DD0D-439C-B257-C21CFE30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8FF-9432-4984-A8AC-700026EF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5E1-E77E-46A2-97EE-C9FF1601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D69-3BD0-4993-892E-E8C67CB2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27A-9817-4AE5-84F6-0E4A52B2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5D7-57A2-4DA2-BDD5-24401DFA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018-65E5-4ECE-AC12-94409230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EA2-8B9D-4859-A275-797B1CB8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198-E23A-4447-B794-3337FA86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CF8-65BF-42A9-80C3-16B8CA3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143-5E28-4A7F-BF3E-D0882C3E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D2AB-3149-44C7-90A5-0CCDF3163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Transformation of Pediatric Care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5028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diatric Design of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 TRANSFOR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anna Jewell, Jamie Beyer, Jiten Chhabra, Hui Ca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39038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fbd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594360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00800" y="5943600"/>
            <a:ext cx="914400" cy="57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228600" y="2971800"/>
            <a:ext cx="4040280" cy="303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4067280" y="1905120"/>
            <a:ext cx="40860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fbd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Ki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distractions for ki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ze the waiting area (kids drawings, artwork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as active distraction and therapy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ill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kids: “ Magic Bracele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get the kids’ temperature, pulse and other data before they see the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help the kids keep connected with thei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627696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095880" y="6281640"/>
            <a:ext cx="9144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fbd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ar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Informatio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screen shows the status of wai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education de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pace for parents, staff and other soci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orner for parents where they can send email, fax and provide other relate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627696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5880" y="6281640"/>
            <a:ext cx="9144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52:45Z</dcterms:created>
  <dc:creator>HCAI3</dc:creator>
  <dc:description/>
  <dc:language>en-US</dc:language>
  <cp:lastModifiedBy>HCAI3</cp:lastModifiedBy>
  <dcterms:modified xsi:type="dcterms:W3CDTF">2007-09-04T01:45:50Z</dcterms:modified>
  <cp:revision>16</cp:revision>
  <dc:subject/>
  <dc:title>Transformation of Pediatric Care Space</dc:title>
</cp:coreProperties>
</file>